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6F5-7FD6-4FEA-88BA-746D909E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7720" y="4217040"/>
            <a:ext cx="7696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19D-E4E7-4A1E-A657-E170416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5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170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1520" y="42170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AFB-4D24-485C-B594-C7DC24F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800" y="18288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1880" y="18288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7720" y="42170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800" y="42170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1880" y="42170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04A-CD12-447B-B141-93CD313D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7720" y="182880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E3F-94FC-48D1-A2F0-3097A556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EAE-88F6-4141-9556-5ECABDD9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1520" y="18288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23D-1482-499A-BA68-D3E75CA9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10E-32EF-4C87-B85E-D06AB56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5715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652-C214-4163-B5E2-4FF79CD8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520" y="18288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7720" y="42170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4DF-9F66-4012-97B0-8F6B25B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15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1520" y="42170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885-A150-4FDD-B8A5-6463A8D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1520" y="18288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217040"/>
            <a:ext cx="7696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4F0-A926-4C9C-93D7-29922F9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2880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4EE-338D-40CD-BD30-72E4A75E6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4320" y="1522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http://www.niaot.ac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报  告  题  目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主讲人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11T11:08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